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8EB5-B29F-4FD5-B282-69744ED1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EC0-CE96-433B-90E9-051B9611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EF7E-5D3C-4734-8F2F-84E6541D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7C4-4829-42F5-B3AB-9C72C10F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30E-5592-42D5-A350-E3C71717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2DD-AD3C-40EE-A32E-7A0FB47E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88F-1BCA-4FCF-A26F-76BE11EF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58CB-F5C5-4CD2-9919-BC657324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3C5-0F61-420E-83EA-E456F596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4524-AD3E-4596-B119-3C425FF5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CFA5-64C0-40AB-A9D9-1F677458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688-65F3-4863-8C2E-34382278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F39C-F12D-455E-9FA2-28E39F6737C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0" b="64088"/>
          <a:stretch/>
        </p:blipFill>
        <p:spPr>
          <a:xfrm>
            <a:off x="0" y="44280"/>
            <a:ext cx="9109080" cy="11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0" t="43678" r="0" b="0"/>
          <a:stretch/>
        </p:blipFill>
        <p:spPr>
          <a:xfrm>
            <a:off x="179280" y="2708280"/>
            <a:ext cx="8713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ميت سورة الأعراف بهذا الا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لفظ (الأعراف) فيها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06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 إلا الآيات من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6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إلى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70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فمدن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5295960" cy="576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71628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407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43354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6"/>
          <p:cNvCxnSpPr/>
          <p:nvPr/>
        </p:nvCxnSpPr>
        <p:spPr>
          <a:xfrm flipH="1">
            <a:off x="8456040" y="49413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479736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عث والجنة والنا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8"/>
          <p:cNvSpPr/>
          <p:nvPr/>
        </p:nvSpPr>
        <p:spPr>
          <a:xfrm>
            <a:off x="8820000" y="4327560"/>
            <a:ext cx="0" cy="20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19"/>
          <p:cNvCxnSpPr/>
          <p:nvPr/>
        </p:nvCxnSpPr>
        <p:spPr>
          <a:xfrm flipH="1">
            <a:off x="8456040" y="4652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4459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حيد والرسا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1"/>
          <p:cNvCxnSpPr/>
          <p:nvPr/>
        </p:nvCxnSpPr>
        <p:spPr>
          <a:xfrm flipH="1">
            <a:off x="8456040" y="53319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515772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ص الأنبياء والأمم الساب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56685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55180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بعض القضايا الاجتماع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8920" y="60098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5600" y="5834160"/>
            <a:ext cx="82090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بعض الآداب والأخلاق الإسلام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7"/>
          <p:cNvCxnSpPr/>
          <p:nvPr/>
        </p:nvCxnSpPr>
        <p:spPr>
          <a:xfrm flipH="1">
            <a:off x="8458920" y="63468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5600" y="6194520"/>
            <a:ext cx="8209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المعاصي والإعراض عن طاعة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1424160" y="1700280"/>
            <a:ext cx="7372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